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323A-19A5-4631-B7B9-CCE2A61D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type =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() – activating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stat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– (9) tracking object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n line 8 compiled into a middleware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s: Communication radius = 6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 radius: 1-2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nquish = max theoretica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immediately relinquishes leadership when entity moves out of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trackable speed is VERY fast, 10-30 times faster than max speed of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ensor range increases max trackable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heartbeat increases maximum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ized events are more easily tr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breaks if CR &lt; 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med nodes broadcast JAM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nodes receive JAM message and become mapp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 sends BUIL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sends BUILD message, M3 starts coalescing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M3’s coalescing timer expires, coalesce group, send BUILD message of new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) M2 receives coalesced group from M3, updates local data and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) M1 PROBES for neighbors, bridge nodes receives probe and starts long coalescing timer for G1 and 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) Bridge B1’s coalescing timer expires, sends a BUILD message to M1 and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ately connected networks converge quickly to a single dominant group.  Minimally connected network did not always converge (121 nodes in jammer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view of minimally connect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des present in minimally connected networks.  Jammed nodes are only those along boundary.  Note increase in reliance on bridging nodes as jammed region exp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moderately connected networks converge quickly.  Minimally connected network takes longer because of reliance on bridg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Failure rate = the probability that a mapping node fails. The more connected the network, the more robust to fail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Increase in number of PROBE messages show that as failure rate increases, the number of partitions increase which prevents adjacent groups from coales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s surrounding entity form groups, one around each entity.  Sensor Network Abstraction Layer associates a context label with each group.  Context label contains aggregate state of entity being tracked. Tracking object within the context label performs context-specific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A4D-4CD3-4787-A572-74E8A085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850-D6B9-47D3-AE4C-E98FD557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2C6-749B-4B4C-8302-27E3EED2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745-B738-4EE3-B41F-A40BF6C9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4AB6-AF24-4790-8AAE-8A07F8B5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57A5-017A-4706-9FC5-C4B361FD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F418-9C65-4901-9E35-2BF11E67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5973-9BA2-49E6-889D-E2E45295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055D-5747-4CBB-93D3-3E9F8338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6939-53CB-4E3E-BAB1-EF49B2E9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41E4-C09D-4BAB-8C23-3D1AB0A6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909-A965-4063-B93B-8BAE36EC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EE23-BA3E-4CF0-A2DD-052C37D7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7369-31D7-4165-8483-C7618EF8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DEE8-59D1-473C-A23E-A69439B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FC16-D4DB-4DAE-8CC6-08DC0F1E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0101-7105-464A-90F9-24F73D88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D42-4642-408B-92CE-D970613C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029-54E0-4375-8AB5-403C6BBB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731-EA43-4089-A6E0-8C8FB764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CAE-362D-41B7-BD85-740C23FB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EC4-50DC-4484-90BA-BD1905A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9C7-EAC4-42CF-A3BC-AE6F559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58A-23A9-443D-A5D8-E115B9A0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4427-8437-4620-A758-2B98DDE39D7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3409-EC5A-4989-8E0E-D0C9120BBC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CC95-D512-4EA2-A69B-1CD0925B466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BF8C-B1C8-4DB8-99C2-F020FAF85D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nviroTrack and JA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Chien-Liang F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58F6-8BDB-4539-8EF4-ADCA95FB0F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n-member node receives a heartbeat, it sets a ti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before expiration, the node joins the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after timer expires, the node creates a new group (and context label) and declares itself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F7D-B009-4B1F-B77F-0D88C8033B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urious Lea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member algorithm may result in more than one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ntext label’s leader contains a weight, initially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 weight each time data is received from the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s inherited during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with greater weight w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ly for spurious leaders atta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9148-BDAA-4C82-8E86-81A89B3C49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ximate Aggregate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of the group maintains the approximate aggregate data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 sends each memb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mber periodically sends sensor data to leader with a period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work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cessing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performs aggregation ever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alid flag is set 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not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EA2-359B-4506-84DC-29F5B4C4A8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ccess to a particular type of context 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hash fun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typ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ysical location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within one hop of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alled directory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 labels periodically send their state and location to directory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9CC-AB79-4E9A-AB16-611674B732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Track provides a language for declaring context labels and aggregate data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co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5181840" cy="28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61D-E208-4C51-B64A-6A1E75F02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 example scena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-72 tank moves through a senso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can detect tank 100m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arranged in grid 140m a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max speed, tank moves one hop every 11.2 seconds (45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test 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:1 model of the above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s/hop (50km/h) and 15s/hop (33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D85-BA46-4350-AFE8-BBF8348DB1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ed tank trajec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located at integer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path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have no notion of proxi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792468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60D-E2C8-4711-9AED-8F41B6C157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dership Hando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960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AE4-A7BB-41EB-9120-562693EF19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handles message 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loss not due to link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uses very little band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le to greater tracking diffi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D88-8630-4747-843F-80519C512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fected most by heartbeat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st results w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 timer = 2.1 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take over lead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r = 4.1*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create new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020-2A5B-4661-83D8-96725F410E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Tr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entity-tracking middleware for s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n sing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xt lab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straction that is dynamically created and logically associated with an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s details of inter-nod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s of group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r interacts with context label rather than changing set of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11D-E600-4765-9522-F487C87B68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230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C60-9794-42C0-86E4-11A71686C0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Radius &amp; Sensing Radius Rat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0264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DB9-6030-41E5-9F28-564FA7E2C5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viroTrack is a middleware for tracking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s applications from detail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ECC-1AB2-4645-8A85-F3E08836A9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ocol that allows applications to view a jammed region as an entity rather than a collection of broken links and congest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data to be rerouted around a jammed region and other evasive 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DDC-9841-4D97-8186-83026361BD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s within the jammed area notify nodes outside of the jammed area that they are jam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just outside jammed area coordinate to form groups of jammed n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4100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0120" y="47340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55627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12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133360" y="4724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5740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752480" y="528336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5730840"/>
            <a:ext cx="410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6760" y="5734080"/>
            <a:ext cx="1238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6760" y="553392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84440" y="470808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5133960"/>
            <a:ext cx="2887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5760" y="52484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5629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867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54770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687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20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164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0160" y="57056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1200" y="53244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4980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4714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878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800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06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3068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84640" y="4711680"/>
            <a:ext cx="18108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2000" y="4714920"/>
            <a:ext cx="49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8440" y="4749840"/>
            <a:ext cx="2188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8200" y="48672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0000" y="6076800"/>
            <a:ext cx="4255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09760" y="5829480"/>
            <a:ext cx="2350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54760" y="5886000"/>
            <a:ext cx="2286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53200" y="5410080"/>
            <a:ext cx="378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13240" y="5162400"/>
            <a:ext cx="2556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52920" y="5025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778280" y="494316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30560" y="5251320"/>
            <a:ext cx="61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777920" y="561348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95840" y="5232240"/>
            <a:ext cx="20016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479840" y="5076720"/>
            <a:ext cx="20016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52578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56386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864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8440" y="480996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40560" y="517176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0240" y="503568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005600" y="495252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57880" y="526104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005240" y="562284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053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6294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5057640"/>
            <a:ext cx="9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6760" y="50198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37160" y="494028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50958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493092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057-0E11-4DDD-B4A4-F673CDDEBC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583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871-2391-47D7-9AB2-CCB2983763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 De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considers itself jammed when the utility of its communication link falls below a certain thres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local data (failed channel access, protocol violations, low SN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de considers itself jammed, it periodically sends a JAMME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MAC to bypass carrier sense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fully an un-jammed neighbor receives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7F6-7B28-4FC3-838E-3E73A75CBE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pping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receive a JAMMED messages from its jammed neighbors and calculates normal direction vector to the jamm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nodes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pp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t is not aware of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pat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, it creates a new one with a random ID, waits a while, and broadcasts a BUIL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groups are compatible if the angular difference between their direction vectors is below some thres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DC2-31B7-4A34-B03A-12F82A18FA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Coales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wo groups are compatible, they are coalesced after a certa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with the larger group ID dom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med nodes in the subordinate group is merged with the dominant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nt group’s BUILD message is augmented with subordinate group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45E-E787-4663-8B8D-73042A4FB3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Mes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of original 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known jammed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subordinate group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regular node, store data lo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mapping node, update the list of known jammed nodes and rebroadcas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31E-73B7-4DFA-9B87-B671D88395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orm of attribute-based na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n address to the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stinguished by type  (e.g., fire or c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ggregat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s application-defin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racking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elements that perform context-specific computation 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s a group of nodes that can sense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018-BAFE-44A6-8ED3-CFF6D92A7A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ger Eavesdr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attempts to quickly diffuse knowledge of jammed reg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information diffusion: As a BUILD message is relayed around mapping nodes, each node updates list of jammed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Flooding: When a a BUILD message is rebroadcasts, the single hop upstream mapping node processes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dates its list of jammed n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es not relay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A29-1856-4C1E-A53A-22084D4FE3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apping node that does not have a neighbor left or right of the direction v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neighbor is not discovered within some time, it periodically sends a PROBE message to detect neighboring mapping node(s) or for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3341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6440" y="488628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82844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09680" y="4876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3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828800" y="543564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80720" y="5883120"/>
            <a:ext cx="414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3080" y="5886360"/>
            <a:ext cx="12384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82720" y="568656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60760" y="486072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2720" y="5286240"/>
            <a:ext cx="28908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0208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0208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560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560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5600" y="6162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5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84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28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16480" y="5857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7160" y="54770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5760" y="61628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971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642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8400" y="5172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070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0700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260960" y="4863960"/>
            <a:ext cx="180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8320" y="4866840"/>
            <a:ext cx="4982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400" y="4902120"/>
            <a:ext cx="219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4160" y="50198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86320" y="6229440"/>
            <a:ext cx="425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86440" y="5981760"/>
            <a:ext cx="23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30720" y="6039000"/>
            <a:ext cx="22860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429160" y="5562720"/>
            <a:ext cx="38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89560" y="531468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629240" y="517860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54600" y="509544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06880" y="540396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4240" y="576576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772160" y="5384520"/>
            <a:ext cx="1998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556160" y="5229000"/>
            <a:ext cx="20016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62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172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172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4400" y="4962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16880" y="5324400"/>
            <a:ext cx="252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6560" y="5187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081920" y="5105160"/>
            <a:ext cx="75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234200" y="5413320"/>
            <a:ext cx="64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081920" y="5775480"/>
            <a:ext cx="950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81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5210280"/>
            <a:ext cx="921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2720" y="5172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3120" y="509256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3560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67000" y="508320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8769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8520" y="57913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38680" y="6045120"/>
            <a:ext cx="466560" cy="146160"/>
          </a:xfrm>
          <a:custGeom>
            <a:avLst/>
            <a:gdLst/>
            <a:ahLst/>
            <a:rect l="l" t="t" r="r" b="b"/>
            <a:pathLst>
              <a:path w="294" h="92">
                <a:moveTo>
                  <a:pt x="0" y="8"/>
                </a:moveTo>
                <a:cubicBezTo>
                  <a:pt x="43" y="3"/>
                  <a:pt x="78" y="0"/>
                  <a:pt x="120" y="14"/>
                </a:cubicBezTo>
                <a:cubicBezTo>
                  <a:pt x="149" y="43"/>
                  <a:pt x="190" y="49"/>
                  <a:pt x="228" y="62"/>
                </a:cubicBezTo>
                <a:cubicBezTo>
                  <a:pt x="251" y="70"/>
                  <a:pt x="269" y="92"/>
                  <a:pt x="294" y="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EEC-85D9-4D4A-A325-B5D6188B6F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actually receive any JAMMED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wo e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ks areas of low 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becomes a bridge node when it detects a PROBE message from a group it knows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ridge node’s coalescing timer is longer to prevent spurious bridg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06C-A6ED-43ED-B9A5-73746307F6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jammed node becomes un-jammed, it periodically sends an UNJAMMED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mapping node receives it, it updates the list of jammed nodes and propagates an TEARDOW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of a BUILD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ll of a mapping node’s jammed neighbors are un-jammed, the mapping node becomes a regular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997-8187-4B29-9E49-437E92E774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184560" cy="2536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2895480" cy="2248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048120" cy="2417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47E-1429-4F38-9FAE-1B8BB54098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102120" cy="2128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738520" cy="21286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841320" y="4000680"/>
            <a:ext cx="3268800" cy="2130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205440" cy="21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8A8-1566-4ECE-9BB2-EC29DE80AB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oSim si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0 x 4000 met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nodes placed at 200m interval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 settings inbetween MICA2 and Wav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A &amp; IEEE802.11 MAC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med area ranged from 5-144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: 4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ate: 8 and 12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B87-4533-4BA4-993C-400F1087E9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jammer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28600" y="2286000"/>
          <a:ext cx="845820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58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769-4823-4CF5-87C6-420EDEC768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map region, 12 neighbor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% of mapping nodes know 1/3 of jammed region in 0.5-3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52280" y="3429000"/>
          <a:ext cx="830592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429000"/>
                    <a:ext cx="830592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559-8735-43F5-9E22-DFF1F29BE2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 failur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3880" y="2209680"/>
          <a:ext cx="541044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4104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219320" y="4191120"/>
          <a:ext cx="563868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56386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3135-3420-4C55-9311-91961D0A69B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context labels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one context 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label follows the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 management, leader mainten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aggregate state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eshne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 applic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support for defining context labels, aggregate state variables, and tracking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060-18F8-428A-83D8-C100B578C1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provides a protocol for mapping a jammed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 group semantics and eager eavesdropp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convergence and tolerance to failures when network is moderately conn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52F-57BF-490D-8E38-D78361FBA0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m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880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935-0F17-4F26-870F-9EBE805C3B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 Spec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clare a context label of typ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following must be provid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specifies a pattern in the environment to watch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the state data to be maintained within the context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Track provides a library of stat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)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ible by all tracking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tracking objects to associate with the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33E-9AE2-4B91-9AF8-29A5E09E34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sensors that detect the entity should produce a single context label for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lgorithm must be lightweight and dyna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members of the group must satisfy sens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t most on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 lea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in th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199-307E-4FEE-95F4-1F9028B00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eader exists, the leader sends heartbeat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ag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 beyond group bou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s member nodes leader is still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es non-members of the existence of context lab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64B-0561-4DE6-8FB6-F75788DA7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member receives a heartbeat, it sets a timer.  If timer expires before receiving another heartbeat, a leadership takeover protocol is trigg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backup to the standard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013-F3B5-44DE-BD0E-4A7FEB04D9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</cp:lastModifiedBy>
  <dcterms:modified xsi:type="dcterms:W3CDTF">2003-10-16T15:31:23Z</dcterms:modified>
  <cp:revision>137</cp:revision>
  <dc:subject/>
  <dc:title>PowerPoint Presentation</dc:title>
</cp:coreProperties>
</file>